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D748-46F4-4DAC-BC70-D1866F20E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238-083B-4D89-B16B-B29C7F9C5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48A-5E72-4833-811F-41598E91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F55-DCF3-481D-B5DC-B85D79A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385-6BD6-496B-B275-CC1CF462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72B-D790-405A-9A5B-EC7CBD59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055B-6ACD-4024-9E2D-5B443BA4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8DFD-0F41-48C7-9678-4B568205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055D-1E24-4CFC-AB0A-C9576680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DB72-F2A1-4648-AA12-EB82167D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179-61B5-407B-95AA-A85B223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1C27-DE38-4564-97AD-37E764F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93D6-409A-4C9C-9622-A639066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F16-F3E6-4441-984D-975C01D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E47C-28ED-41D7-9856-5EDE7D1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457-ECBD-429A-BA86-B8549B0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1B6-02DD-459A-A5CD-A29DB5B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FB12-BE4D-475A-9AF2-83064CB2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126-5114-40C7-8F94-2A8C9E81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E760-47A0-400B-91C5-46F4F91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C67A-07CE-4F7F-813F-6FD1199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4949-6EA5-4BC7-81C6-5857DE5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286E-FD8E-4F32-8694-59DB971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3FF6-C05C-496B-A637-7A38C1D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C67-C7DC-49C4-846D-42219F8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3CD5-1A4E-4B0F-8265-E147D5D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0479-E3AE-4464-98B0-409412EE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045F-EDC9-4190-BFD0-E130461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5224-6643-4254-825C-0E1908EB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6F19-5469-4BCC-B5C5-4D86F44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ED65-80AC-4D31-8D5B-97364C35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F33A-100A-4BCD-812A-3A4C0963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B39-6118-48DF-ACE7-3D85F84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D56-AA75-43A6-8E54-D80F9CFB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919-B3FC-4B82-94E9-4A0BB1B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728-809E-4910-A123-37D0268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A0A-0E4C-42F0-A52D-7940F9C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920-75D4-4A31-AC4F-F35A81A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1E36-AE91-4326-9F3A-CA27C3232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952D-7884-4FD0-9B62-FED4920FB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F9E-1A75-4E45-8FED-2B84D82C8511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500120" y="21420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755640" y="836640"/>
            <a:ext cx="741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Портрет княгини Ольги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ttps://avatars.mds.yandex.net/get-pdb/51720/3c5c912b-a252-448d-b11a-5c9fc3be92f1/s1200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s://ds02.infourok.ru/uploads/ex/10da/000715b9-65c1f6e1/img2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deduhova.ru/statesman/wp-content/uploads/2013/09/0_140aa3_7407eb08_orig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s://illustrators.ru/uploads/illustration/image/880774/main_OLGA_I_SVYATOSLAV_copy.jpg"/>
          <p:cNvPicPr/>
          <p:nvPr/>
        </p:nvPicPr>
        <p:blipFill>
          <a:blip r:embed="rId1"/>
          <a:stretch/>
        </p:blipFill>
        <p:spPr>
          <a:xfrm>
            <a:off x="1979640" y="549360"/>
            <a:ext cx="5268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www.zdravrussia.ru/images/foto/fool/8322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http://cdbvizit.ru/wp-content/uploads/2013/02/%D0%98.%D0%90.-%D0%90%D0%BA%D0%B8%D0%BC%D0%BE%D0%B2.-%D0%9A%D1%80%D0%B5%D1%89%D0%B5%D0%BD%D0%B8%D0%B5-%D0%BA%D0%BD%D1%8F%D0%B3%D0%B8%D0%BD%D0%B8-%D0%9E%D0%BB%D1%8C%D0%B3%D0%B8-%D0%B2-%D0%9A%D0%BE%D0%BD%D1%81%D1%82%D0%B0%D0%BD%D1%82%D0%B8%D0%BD%D0%BE%D0%BF%D0%BE%D0%BB%D0%B5.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https://img-fotki.yandex.ru/get/6735/14403785.ee/0_a52ff_ac6a7063_XL.jpg"/>
          <p:cNvPicPr/>
          <p:nvPr/>
        </p:nvPicPr>
        <p:blipFill>
          <a:blip r:embed="rId1"/>
          <a:stretch/>
        </p:blipFill>
        <p:spPr>
          <a:xfrm>
            <a:off x="250920" y="3500280"/>
            <a:ext cx="4321080" cy="309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s://img-fotki.yandex.ru/get/6806/14403785.ee/0_a5301_b403bcb0_XL.jpg"/>
          <p:cNvPicPr/>
          <p:nvPr/>
        </p:nvPicPr>
        <p:blipFill>
          <a:blip r:embed="rId2"/>
          <a:stretch/>
        </p:blipFill>
        <p:spPr>
          <a:xfrm>
            <a:off x="4572000" y="260280"/>
            <a:ext cx="4392720" cy="633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s://img-fotki.yandex.ru/get/6816/14403785.ee/0_a5302_67cfcd5d_XL.jpg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ÐÐ½ÑÐ·Ñ Ð¡Ð²ÑÑÐ¾ÑÐ»Ð°Ð² ÐÐ³Ð¾ÑÐµÐ²Ð¸Ñ"/>
          <p:cNvPicPr/>
          <p:nvPr/>
        </p:nvPicPr>
        <p:blipFill>
          <a:blip r:embed="rId1"/>
          <a:stretch/>
        </p:blipFill>
        <p:spPr>
          <a:xfrm>
            <a:off x="250920" y="1197000"/>
            <a:ext cx="4630680" cy="540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s://ic.pics.livejournal.com/mister65/71478176/121847/121847_900.png"/>
          <p:cNvPicPr/>
          <p:nvPr/>
        </p:nvPicPr>
        <p:blipFill>
          <a:blip r:embed="rId2"/>
          <a:stretch/>
        </p:blipFill>
        <p:spPr>
          <a:xfrm>
            <a:off x="4859280" y="1197000"/>
            <a:ext cx="4033800" cy="54007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7"/>
          <p:cNvSpPr/>
          <p:nvPr/>
        </p:nvSpPr>
        <p:spPr>
          <a:xfrm>
            <a:off x="324000" y="549360"/>
            <a:ext cx="8640720" cy="647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b95"/>
                </a:solidFill>
                <a:latin typeface="Calibri"/>
              </a:rPr>
              <a:t>Ярополк Святославич </a:t>
            </a:r>
            <a:r>
              <a:rPr b="0" lang="ru-RU" sz="2000" spc="-1" strike="noStrike">
                <a:solidFill>
                  <a:srgbClr val="422b95"/>
                </a:solidFill>
                <a:latin typeface="Calibri"/>
              </a:rPr>
              <a:t>и </a:t>
            </a:r>
            <a:r>
              <a:rPr b="1" lang="ru-RU" sz="2000" spc="-1" strike="noStrike">
                <a:solidFill>
                  <a:srgbClr val="422b95"/>
                </a:solidFill>
                <a:latin typeface="Calibri"/>
              </a:rPr>
              <a:t>Владимир Святославич</a:t>
            </a:r>
            <a:r>
              <a:rPr b="0" lang="ru-RU" sz="2000" spc="-1" strike="noStrike">
                <a:solidFill>
                  <a:srgbClr val="422b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http://prezentacii.info/wp-content/uploads/2018/09/cQpDmo5uoeZG5mhf/50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1:32:27Z</dcterms:created>
  <dc:creator>Comp</dc:creator>
  <dc:description/>
  <dc:language>en-US</dc:language>
  <cp:lastModifiedBy>ASCM</cp:lastModifiedBy>
  <dcterms:modified xsi:type="dcterms:W3CDTF">2019-05-21T22:39:23Z</dcterms:modified>
  <cp:revision>154</cp:revision>
  <dc:subject/>
  <dc:title>Слайд 1</dc:title>
</cp:coreProperties>
</file>